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20.wmf" ContentType="image/x-wmf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840-15D9-4714-B752-A8560A43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BBF-70B5-4E27-BEE9-2EA08600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70E-1866-4D4D-9E44-31819F50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D1D-B7A1-40B0-8A5C-CCA5B8D5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881B-2769-4078-BB88-99A45027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7B19-B4DB-4092-9770-64710027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ACE0-94BC-4701-99FB-F6C7FF98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00D5-30C5-4248-99EF-4B5D46B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77E7-567F-41BC-9192-84020BC3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2A8E-D64A-498E-AAD7-D898F9A6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4155-E1FD-4005-970B-800F2DA6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D30-4239-4F61-8C36-06CB5C5A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54FE-2BFD-4CB3-A1E0-33AE3D01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CD18-57C2-43F3-9984-38B46A2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F25A-7727-4B8B-AC1A-314B6E0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DA5E-55E8-4567-A52D-F0C87071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3B82-C6B1-49B6-9E81-AE0F934D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9B3-018B-4F0B-B1A1-E4FEA7D9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F91-4097-4FCC-9435-D131037F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5E4-8300-4FFD-B0E9-94DCBC30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5A8-8F9B-4D41-8CF4-9AEDE70F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F33-4261-49CF-9811-279F57E8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B3A-6648-4995-85C3-E387D5A1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5E2-3813-4F2A-A732-3BE5C4F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5D7A-1E01-447B-9190-52BF8A636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6D72-11FD-464F-9A58-A3900D3F4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 and 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identify whether a story is realistic or fantasy by looking at the cover of th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421000" cy="17398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3915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647960" cy="3782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21960" y="45720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9400" y="45720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75248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0958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08660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4674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3733920" cy="3708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4600" y="43434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9400" y="43434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75248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601992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72388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39152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Classic Children's Books - The Complete Adventures of Curious George"/>
          <p:cNvPicPr/>
          <p:nvPr/>
        </p:nvPicPr>
        <p:blipFill>
          <a:blip r:embed="rId1"/>
          <a:stretch/>
        </p:blipFill>
        <p:spPr>
          <a:xfrm>
            <a:off x="2895480" y="304920"/>
            <a:ext cx="3179880" cy="3962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57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167652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6172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3341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210040" cy="160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352680" y="4038480"/>
            <a:ext cx="2362320" cy="149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124164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4762440" cy="3619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074600" y="446724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55720" y="441972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Wonderful Job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5858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276360" cy="23288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15238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1447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5638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’re finishe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not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699920" cy="186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1905120" cy="168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095880" y="411480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Directions: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ok at the book cover and decide whether the story is realistic or fantasy.  Click on the button under the answ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79712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25880" cy="3810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71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17524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594360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046400" cy="39733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888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638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201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46483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648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1600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867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391520" y="56386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27:53Z</dcterms:created>
  <dc:creator>Lisa Mahoney</dc:creator>
  <dc:description/>
  <dc:language>en-US</dc:language>
  <cp:lastModifiedBy>Beth Ann</cp:lastModifiedBy>
  <dcterms:modified xsi:type="dcterms:W3CDTF">2009-04-13T00:54:37Z</dcterms:modified>
  <cp:revision>23</cp:revision>
  <dc:subject/>
  <dc:title>Realism and Fantasy</dc:title>
</cp:coreProperties>
</file>